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658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65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3885840" y="-360"/>
            <a:ext cx="29718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014120" y="723600"/>
            <a:ext cx="4830840" cy="362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587840"/>
            <a:ext cx="5029200" cy="43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4"/>
          </p:nvPr>
        </p:nvSpPr>
        <p:spPr>
          <a:xfrm>
            <a:off x="-360" y="9175320"/>
            <a:ext cx="29718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5"/>
          </p:nvPr>
        </p:nvSpPr>
        <p:spPr>
          <a:xfrm>
            <a:off x="3885840" y="9175320"/>
            <a:ext cx="29718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FE655-1F69-47F7-A0AF-F9288CECFD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3885840" y="9175320"/>
            <a:ext cx="29718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2661B-3BD4-4F1A-8E55-2D174E11EE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-360" y="9175320"/>
            <a:ext cx="29718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022400" y="73008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2960" y="4587840"/>
            <a:ext cx="5030640" cy="434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4BA158-5B3F-4B78-A549-9E75FBA7B9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109600" y="151920"/>
            <a:ext cx="590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61600" y="1790280"/>
            <a:ext cx="7456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61600" y="4059000"/>
            <a:ext cx="7456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D5D5E8-6732-4859-8A6D-3D4DCBB84F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109600" y="151920"/>
            <a:ext cx="590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1600" y="1790280"/>
            <a:ext cx="3638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382280" y="1790280"/>
            <a:ext cx="3638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61600" y="4059000"/>
            <a:ext cx="3638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382280" y="4059000"/>
            <a:ext cx="3638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3E6170-A77F-4220-A479-598E269FE5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109600" y="151920"/>
            <a:ext cx="590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61600" y="1790280"/>
            <a:ext cx="2400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83040" y="1790280"/>
            <a:ext cx="2400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604120" y="1790280"/>
            <a:ext cx="2400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61600" y="4059000"/>
            <a:ext cx="2400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83040" y="4059000"/>
            <a:ext cx="2400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604120" y="4059000"/>
            <a:ext cx="2400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E763FA-3C71-4053-B739-BD83FD173B1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109600" y="151920"/>
            <a:ext cx="590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61600" y="1790280"/>
            <a:ext cx="74566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3CAE6D-142E-48ED-8062-D1742997A75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109600" y="151920"/>
            <a:ext cx="590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61600" y="1790280"/>
            <a:ext cx="7456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B56D74-0989-49D4-BDAD-93FD6369B8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109600" y="151920"/>
            <a:ext cx="590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61600" y="1790280"/>
            <a:ext cx="3638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382280" y="1790280"/>
            <a:ext cx="3638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3ACE2-1BB3-4FD7-9B03-570E4760C7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109600" y="151920"/>
            <a:ext cx="590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7FC903-8D03-4766-96DC-070F7E432A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109600" y="151920"/>
            <a:ext cx="5908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0D4086-6108-4A01-BD33-55110FE6F5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09600" y="151920"/>
            <a:ext cx="590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61600" y="1790280"/>
            <a:ext cx="3638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382280" y="1790280"/>
            <a:ext cx="3638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61600" y="4059000"/>
            <a:ext cx="3638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3EEAA2-0380-4496-AC96-CF2D2FDEEB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109600" y="151920"/>
            <a:ext cx="590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61600" y="1790280"/>
            <a:ext cx="3638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382280" y="1790280"/>
            <a:ext cx="3638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382280" y="4059000"/>
            <a:ext cx="3638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6A7776-D04F-40C6-86A9-4FC017EB13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109600" y="151920"/>
            <a:ext cx="590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61600" y="1790280"/>
            <a:ext cx="3638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382280" y="1790280"/>
            <a:ext cx="3638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61600" y="4059000"/>
            <a:ext cx="7456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96A8C6-9887-4B22-80AA-C18BBC4C3D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09600" y="151920"/>
            <a:ext cx="59086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1600" y="1790280"/>
            <a:ext cx="7456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243240" y="6400800"/>
            <a:ext cx="267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O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330960" y="6400800"/>
            <a:ext cx="1758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852F4-4995-49AF-8E4A-CC2CFA821AD0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578A9931-D74B-45B7-84F3-D8B87CC273B5}" type="slidenum"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wmf"/><Relationship Id="rId9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4.wm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59086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Egy faktor szerinti ANOV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27400" y="2315160"/>
            <a:ext cx="53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Több független mintánk van, elemszámu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2133720" y="3200400"/>
                <a:ext cx="35798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;</m:t>
                    </m:r>
                    <m:r>
                      <m:t xml:space="preserve"> </m:t>
                    </m:r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 </m:t>
                    </m:r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,</m:t>
                    </m:r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3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2133720" y="4419720"/>
                <a:ext cx="31716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⋅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6324480" y="2286000"/>
                <a:ext cx="17528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</m:sub>
                    </m:sSub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</m:sub>
                    </m:sSub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8B41A-E982-43D3-A538-406E58C93B8B}" type="slidenum">
              <a:t>1</a:t>
            </a:fld>
          </a:p>
        </p:txBody>
      </p:sp>
    </p:spTree>
  </p:cSld>
  <p:transition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304920" y="1676520"/>
          <a:ext cx="8534160" cy="3595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676520"/>
                    <a:ext cx="8534160" cy="35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>
            <a:off x="669960" y="650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6094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Kiegyensúlyozott terv</a:t>
            </a:r>
            <a:r>
              <a:rPr b="0" i="1" lang="hu-HU" sz="2800" spc="-1" strike="noStrike">
                <a:solidFill>
                  <a:srgbClr val="000000"/>
                </a:solidFill>
                <a:latin typeface="Times New Roman"/>
              </a:rPr>
              <a:t>: p</a:t>
            </a:r>
            <a:r>
              <a:rPr b="0" lang="hu-HU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hu-HU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hu-HU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=...=</a:t>
            </a:r>
            <a:r>
              <a:rPr b="0" i="1" lang="hu-HU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hu-HU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hu-HU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13DA0B-E555-4D25-A0DC-BBED3C772B0C}" type="slidenum">
              <a:t>10</a:t>
            </a:fld>
          </a:p>
        </p:txBody>
      </p:sp>
    </p:spTree>
  </p:cSld>
  <p:transition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380880" y="3124080"/>
          <a:ext cx="5410440" cy="196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124080"/>
                    <a:ext cx="5410440" cy="196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5715000" y="2438280"/>
                <a:ext cx="2671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aphicFrame>
        <p:nvGraphicFramePr>
          <p:cNvPr id="122" name=""/>
          <p:cNvGraphicFramePr/>
          <p:nvPr/>
        </p:nvGraphicFramePr>
        <p:xfrm>
          <a:off x="380880" y="533520"/>
          <a:ext cx="4191120" cy="1885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533520"/>
                    <a:ext cx="4191120" cy="188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"/>
          <p:cNvSpPr/>
          <p:nvPr/>
        </p:nvSpPr>
        <p:spPr>
          <a:xfrm>
            <a:off x="7544160" y="4495680"/>
            <a:ext cx="119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betw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14760" y="579132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with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6248520" y="1295280"/>
                <a:ext cx="2052360" cy="56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sub>
                    </m:sSub>
                    <m:r>
                      <m:t xml:space="preserve">/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 flipH="1">
            <a:off x="4572000" y="1600200"/>
            <a:ext cx="1371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5791320" y="4724280"/>
            <a:ext cx="1676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1523880" y="5105160"/>
            <a:ext cx="213372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5748480" y="5181480"/>
                <a:ext cx="223812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r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6593040" y="3124080"/>
                <a:ext cx="2550960" cy="12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r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2" name=""/>
          <p:cNvSpPr/>
          <p:nvPr/>
        </p:nvSpPr>
        <p:spPr>
          <a:xfrm>
            <a:off x="448200" y="-1080"/>
            <a:ext cx="530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Summary fülön: Descriptive cell stat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99160" y="2513520"/>
            <a:ext cx="405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Summary fülön: Test all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21EE79-3C25-44F4-868F-B6BD7E4DAA92}" type="slidenum">
              <a:t>11</a:t>
            </a:fld>
          </a:p>
        </p:txBody>
      </p:sp>
    </p:spTree>
  </p:cSld>
  <p:transition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109600" y="463680"/>
            <a:ext cx="59086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Feltételezések: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46280" y="1736640"/>
            <a:ext cx="323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295280" y="1736640"/>
            <a:ext cx="463248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z </a:t>
            </a:r>
            <a:r>
              <a:rPr b="0" i="1" lang="hu-HU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hu-HU" sz="24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„hibák” várható értéke zéru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46280" y="2575080"/>
            <a:ext cx="323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46280" y="3336840"/>
            <a:ext cx="323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46280" y="4479840"/>
            <a:ext cx="323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275480" y="2575080"/>
            <a:ext cx="1771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varianciáju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2971800" y="2590920"/>
                <a:ext cx="3589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e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42" name=""/>
          <p:cNvSpPr/>
          <p:nvPr/>
        </p:nvSpPr>
        <p:spPr>
          <a:xfrm>
            <a:off x="3412080" y="2575080"/>
            <a:ext cx="1405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, konst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219320" y="3352680"/>
            <a:ext cx="71816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z </a:t>
            </a:r>
            <a:r>
              <a:rPr b="0" i="1" lang="hu-HU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hu-HU" sz="24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„hibák” csoportokon belül és csoportok közö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670760" y="3886200"/>
            <a:ext cx="3315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is függetlenek egymástól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208880" y="4479840"/>
            <a:ext cx="70261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z </a:t>
            </a:r>
            <a:r>
              <a:rPr b="0" i="1" lang="hu-HU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hu-HU" sz="24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„hibák” normális eloszlásúak (nem az </a:t>
            </a: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hu-HU" sz="24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adatok!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6705720" y="685800"/>
                <a:ext cx="147132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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O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153DCE-F4F2-4492-A563-5563C6BBC472}" type="slidenum">
              <a:t>12</a:t>
            </a:fld>
          </a:p>
        </p:txBody>
      </p:sp>
    </p:spTree>
  </p:cSld>
  <p:transition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768240"/>
            <a:ext cx="129564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Model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2514600" y="3200400"/>
                <a:ext cx="342900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9" name=""/>
          <p:cNvSpPr/>
          <p:nvPr/>
        </p:nvSpPr>
        <p:spPr>
          <a:xfrm>
            <a:off x="4418280" y="4418280"/>
            <a:ext cx="178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igazi érté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várható érté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65440" y="441864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mért érté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1905120" y="3809880"/>
            <a:ext cx="53316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648960" y="455760"/>
            <a:ext cx="523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faktor </a:t>
            </a: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dik szintje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dik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dié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z  </a:t>
            </a: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-edik csoporton belüli </a:t>
            </a: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-edik ismétl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 flipV="1">
            <a:off x="3580920" y="3733560"/>
            <a:ext cx="68580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4876920" y="3809880"/>
            <a:ext cx="7596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354040" y="1751400"/>
            <a:ext cx="40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kísérleti (nemcsak mérési) hib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191120" y="228600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722DF4-0F3A-43F8-9AB1-33F0F1391CC3}" type="slidenum">
              <a:t>13</a:t>
            </a:fld>
          </a:p>
        </p:txBody>
      </p:sp>
    </p:spTree>
  </p:cSld>
  <p:transition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838080" y="457200"/>
                <a:ext cx="19051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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3886200" y="457200"/>
                <a:ext cx="37004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⋅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914400" y="2057400"/>
                <a:ext cx="156852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914400" y="4495680"/>
                <a:ext cx="1955880" cy="4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61" name=""/>
          <p:cNvSpPr/>
          <p:nvPr/>
        </p:nvSpPr>
        <p:spPr>
          <a:xfrm>
            <a:off x="6779160" y="1294200"/>
            <a:ext cx="172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átlag-mod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581280" y="1730160"/>
            <a:ext cx="4821480" cy="14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hu-HU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a faktor </a:t>
            </a: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-edik szintjének (</a:t>
            </a: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-edik diéta) hatá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közös érték; </a:t>
            </a: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+1 paramé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4038480" y="4495680"/>
                <a:ext cx="268776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4" name=""/>
          <p:cNvSpPr/>
          <p:nvPr/>
        </p:nvSpPr>
        <p:spPr>
          <a:xfrm>
            <a:off x="7008480" y="5333040"/>
            <a:ext cx="175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hatás-mod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3047040"/>
            <a:ext cx="116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=1,…,</a:t>
            </a: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4343400" y="3200400"/>
                <a:ext cx="1447920" cy="86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r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A13894-9377-46CE-8A43-0074E27B5A20}" type="slidenum">
              <a:t>14</a:t>
            </a:fld>
          </a:p>
        </p:txBody>
      </p:sp>
    </p:spTree>
  </p:cSld>
  <p:transition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3886200" y="304920"/>
                <a:ext cx="135252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μ</m:t>
                        </m:r>
                      </m:e>
                    </m:acc>
                    <m:r>
                      <m:t xml:space="preserve"> </m:t>
                    </m:r>
                    <m:r>
                      <m:t xml:space="preserve">+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α</m:t>
                        </m:r>
                      </m:e>
                    </m:acc>
                    <m:sSub>
                      <m:e>
                        <m:r>
                          <m:t xml:space="preserve">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68" name=""/>
          <p:cNvSpPr/>
          <p:nvPr/>
        </p:nvSpPr>
        <p:spPr>
          <a:xfrm>
            <a:off x="685800" y="303840"/>
            <a:ext cx="14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Becslés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762120" y="1295280"/>
                <a:ext cx="3601800" cy="13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μ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j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</m:e>
                            </m:nary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den>
                    </m:f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den>
                    </m:f>
                    <m:r>
                      <m:t xml:space="preserve">=</m:t>
                    </m:r>
                    <m:r>
                      <m:t xml:space="preserve">y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838080" y="3048120"/>
                <a:ext cx="16081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α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−</m:t>
                    </m:r>
                    <m:r>
                      <m:t xml:space="preserve">y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838080" y="3657600"/>
                <a:ext cx="149076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⋅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72" name=""/>
          <p:cNvSpPr/>
          <p:nvPr/>
        </p:nvSpPr>
        <p:spPr>
          <a:xfrm>
            <a:off x="6019560" y="1675440"/>
            <a:ext cx="10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főátl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0720" y="2970720"/>
            <a:ext cx="318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hatá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csak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1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függet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025240" y="3656520"/>
            <a:ext cx="30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z </a:t>
            </a: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-edik csoport átla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685800" y="4495680"/>
          <a:ext cx="5715000" cy="184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495680"/>
                    <a:ext cx="5715000" cy="18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10B823-9297-4CAE-B04F-32915A7130A8}" type="slidenum">
              <a:t>15</a:t>
            </a:fld>
          </a:p>
        </p:txBody>
      </p:sp>
    </p:spTree>
  </p:cSld>
  <p:transition>
    <p:checke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" name=""/>
          <p:cNvGraphicFramePr/>
          <p:nvPr/>
        </p:nvGraphicFramePr>
        <p:xfrm>
          <a:off x="3809880" y="3048120"/>
          <a:ext cx="4876920" cy="224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3048120"/>
                    <a:ext cx="4876920" cy="22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838080" y="762120"/>
          <a:ext cx="5715000" cy="1842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762120"/>
                    <a:ext cx="5715000" cy="184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7010280" y="990720"/>
                <a:ext cx="1447920" cy="86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r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4876920" y="5715000"/>
                <a:ext cx="86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3" name=""/>
          <p:cNvSpPr/>
          <p:nvPr/>
        </p:nvSpPr>
        <p:spPr>
          <a:xfrm>
            <a:off x="6915240" y="1949760"/>
            <a:ext cx="21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sum to z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sigma-restri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85880" y="5637600"/>
            <a:ext cx="14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set to z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1295280" y="3048120"/>
          <a:ext cx="1828800" cy="2971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95280" y="3048120"/>
                    <a:ext cx="182880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"/>
          <p:cNvSpPr/>
          <p:nvPr/>
        </p:nvSpPr>
        <p:spPr>
          <a:xfrm>
            <a:off x="304920" y="525780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76560" y="151200"/>
            <a:ext cx="37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Summary fülön: Coeffici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A2DA8B-74F3-4DEB-AC18-2272FA17F558}" type="slidenum">
              <a:t>16</a:t>
            </a:fld>
          </a:p>
        </p:txBody>
      </p:sp>
    </p:spTree>
  </p:cSld>
  <p:transition>
    <p:checke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9250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Konfidencia-intervallum az egyes csoportok várható értékér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124280" y="1812960"/>
            <a:ext cx="1890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Pont-becslé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20680" y="2727360"/>
            <a:ext cx="2757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Intervallum-becslé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5105520" y="2514600"/>
                <a:ext cx="1388880" cy="90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⋅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⋅</m:t>
                                </m:r>
                              </m:sub>
                            </m:sSub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124080" y="3352680"/>
                <a:ext cx="1060560" cy="90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sSup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⋅</m:t>
                                </m:r>
                              </m:sub>
                            </m:sSub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f>
                          <m:num>
                            <m:sSubSup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4933800" y="3565440"/>
            <a:ext cx="2211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szab. fokszám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7543800" y="3505320"/>
                <a:ext cx="1152360" cy="68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6" name=""/>
          <p:cNvSpPr/>
          <p:nvPr/>
        </p:nvSpPr>
        <p:spPr>
          <a:xfrm>
            <a:off x="807840" y="4403880"/>
            <a:ext cx="7811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z </a:t>
            </a: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-edik csoport várható értékének konfidencia-intervallum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1981080" y="5257800"/>
                <a:ext cx="484524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⋅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α</m:t>
                            </m:r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/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rad>
                        <m:r>
                          <m:t xml:space="preserve">&lt;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⋅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α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rad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4800600" y="1752480"/>
                <a:ext cx="149076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⋅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O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626C35-AAD5-4117-AAB6-29DA5956C600}" type="slidenum">
              <a:t>17</a:t>
            </a:fld>
          </a:p>
        </p:txBody>
      </p:sp>
    </p:spTree>
  </p:cSld>
  <p:transition>
    <p:checke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914400" y="762120"/>
                <a:ext cx="2687760" cy="46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00" name=""/>
          <p:cNvSpPr/>
          <p:nvPr/>
        </p:nvSpPr>
        <p:spPr>
          <a:xfrm>
            <a:off x="4570560" y="762120"/>
            <a:ext cx="13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elutasít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973800" y="1870200"/>
            <a:ext cx="302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Mindegyik különböző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914400" y="3200400"/>
                <a:ext cx="89532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3200400" y="3200400"/>
                <a:ext cx="93204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5486400" y="2971800"/>
                <a:ext cx="2157480" cy="7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5" name=""/>
          <p:cNvSpPr/>
          <p:nvPr/>
        </p:nvSpPr>
        <p:spPr>
          <a:xfrm>
            <a:off x="893160" y="4765680"/>
            <a:ext cx="482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Összehasonlítások: tervezett, post ho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22ABAC-D712-4C4D-B4C3-7AB057D5D48D}" type="slidenum">
              <a:t>18</a:t>
            </a:fld>
          </a:p>
        </p:txBody>
      </p:sp>
    </p:spTree>
  </p:cSld>
  <p:transition>
    <p:checker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838080" y="762120"/>
                <a:ext cx="143856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: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4267080" y="609480"/>
                <a:ext cx="1571760" cy="91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  <m:r>
                                  <m:t xml:space="preserve">⋅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  <m:r>
                                      <m:t xml:space="preserve">⋅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3</m:t>
                                        </m:r>
                                        <m:r>
                                          <m:t xml:space="preserve">⋅</m:t>
                                        </m:r>
                                      </m:sub>
                                    </m:sSub>
                                  </m:sub>
                                </m:sSub>
                              </m:sub>
                            </m:sSub>
                          </m:den>
                        </m:f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685800" y="1752480"/>
                <a:ext cx="3576600" cy="96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a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5715000" y="1752480"/>
                <a:ext cx="2643120" cy="96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  <m:r>
                                  <m:t xml:space="preserve">⋅</m:t>
                                </m:r>
                              </m:sub>
                            </m:sSub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210" name=""/>
          <p:cNvGrpSpPr/>
          <p:nvPr/>
        </p:nvGrpSpPr>
        <p:grpSpPr>
          <a:xfrm>
            <a:off x="457200" y="3174120"/>
            <a:ext cx="8458200" cy="510120"/>
            <a:chOff x="457200" y="3174120"/>
            <a:chExt cx="8458200" cy="510120"/>
          </a:xfrm>
        </p:grpSpPr>
        <p:sp>
          <p:nvSpPr>
            <p:cNvPr id="211" name=""/>
            <p:cNvSpPr/>
            <p:nvPr/>
          </p:nvSpPr>
          <p:spPr>
            <a:xfrm>
              <a:off x="1600200" y="3174120"/>
              <a:ext cx="7315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000000"/>
                  </a:solidFill>
                  <a:latin typeface="Times New Roman"/>
                </a:rPr>
                <a:t>egyesítésével a szabadsági fok </a:t>
              </a:r>
              <a:r>
                <a:rPr b="0" i="1" lang="hu-HU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hu-HU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hu-HU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i="1" lang="hu-HU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hu-HU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hu-HU" sz="2400" spc="-1" strike="noStrike">
                  <a:solidFill>
                    <a:srgbClr val="000000"/>
                  </a:solidFill>
                  <a:latin typeface="Times New Roman"/>
                </a:rPr>
                <a:t>-2=6+6-2=10 lenne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2" name=""/>
                <p:cNvSpPr txBox="1"/>
                <p:nvPr/>
              </p:nvSpPr>
              <p:spPr>
                <a:xfrm>
                  <a:off x="457200" y="3200400"/>
                  <a:ext cx="322200" cy="45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3" name=""/>
                <p:cNvSpPr txBox="1"/>
                <p:nvPr/>
              </p:nvSpPr>
              <p:spPr>
                <a:xfrm>
                  <a:off x="1295280" y="3200400"/>
                  <a:ext cx="322560" cy="473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p:sp>
          <p:nvSpPr>
            <p:cNvPr id="214" name=""/>
            <p:cNvSpPr/>
            <p:nvPr/>
          </p:nvSpPr>
          <p:spPr>
            <a:xfrm>
              <a:off x="839520" y="319932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000000"/>
                  </a:solidFill>
                  <a:latin typeface="Times New Roman"/>
                </a:rPr>
                <a:t>é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533520" y="3961080"/>
            <a:ext cx="5732280" cy="682200"/>
            <a:chOff x="533520" y="3961080"/>
            <a:chExt cx="5732280" cy="682200"/>
          </a:xfrm>
        </p:grpSpPr>
        <mc:AlternateContent>
          <mc:Choice xmlns:a14="http://schemas.microsoft.com/office/drawing/2010/main" Requires="a14">
            <p:sp>
              <p:nvSpPr>
                <p:cNvPr id="216" name=""/>
                <p:cNvSpPr txBox="1"/>
                <p:nvPr/>
              </p:nvSpPr>
              <p:spPr>
                <a:xfrm>
                  <a:off x="533520" y="3962520"/>
                  <a:ext cx="347400" cy="45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7" name=""/>
                <p:cNvSpPr txBox="1"/>
                <p:nvPr/>
              </p:nvSpPr>
              <p:spPr>
                <a:xfrm>
                  <a:off x="3505320" y="3962520"/>
                  <a:ext cx="2760480" cy="680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∑"/>
                          <m:supHide m:val="1"/>
                        </m:naryPr>
                        <m:sub>
                          <m:r>
                            <m:t xml:space="preserve">i</m:t>
                          </m:r>
                        </m:sub>
                        <m:sup/>
                        <m:e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e>
                      </m:nary>
                      <m:r>
                        <m:t xml:space="preserve">−</m:t>
                      </m:r>
                      <m:r>
                        <m:t xml:space="preserve">r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24</m:t>
                      </m:r>
                      <m:r>
                        <m:t xml:space="preserve">−</m:t>
                      </m:r>
                      <m:r>
                        <m:t xml:space="preserve">4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2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18" name=""/>
            <p:cNvSpPr/>
            <p:nvPr/>
          </p:nvSpPr>
          <p:spPr>
            <a:xfrm>
              <a:off x="1142280" y="3961080"/>
              <a:ext cx="212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000000"/>
                  </a:solidFill>
                  <a:latin typeface="Times New Roman"/>
                </a:rPr>
                <a:t>szabadsági fok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1828800" y="4648320"/>
                <a:ext cx="21556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  <m:r>
                                  <m:t xml:space="preserve">⋅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den>
                                </m:f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3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rad>
                          </m:den>
                        </m:f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20" name=""/>
          <p:cNvSpPr/>
          <p:nvPr/>
        </p:nvSpPr>
        <p:spPr>
          <a:xfrm>
            <a:off x="5252760" y="4722840"/>
            <a:ext cx="384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LSD-prób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(Least Significant Differen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A60B94-587A-4C7F-AC1D-F918B0FA1965}" type="slidenum">
              <a:t>19</a:t>
            </a:fld>
          </a:p>
        </p:txBody>
      </p:sp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990720" y="1752480"/>
          <a:ext cx="7000920" cy="441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752480"/>
                    <a:ext cx="700092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4" name=""/>
          <p:cNvGrpSpPr/>
          <p:nvPr/>
        </p:nvGrpSpPr>
        <p:grpSpPr>
          <a:xfrm>
            <a:off x="5105520" y="2727360"/>
            <a:ext cx="1269360" cy="396720"/>
            <a:chOff x="5105520" y="2727360"/>
            <a:chExt cx="1269360" cy="396720"/>
          </a:xfrm>
        </p:grpSpPr>
        <p:sp>
          <p:nvSpPr>
            <p:cNvPr id="55" name=""/>
            <p:cNvSpPr/>
            <p:nvPr/>
          </p:nvSpPr>
          <p:spPr>
            <a:xfrm>
              <a:off x="5105520" y="2895480"/>
              <a:ext cx="152280" cy="22860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105520" y="2895480"/>
              <a:ext cx="304560" cy="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5257440" y="2895480"/>
              <a:ext cx="152280" cy="22860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52000" y="2727360"/>
              <a:ext cx="7228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800" spc="-1" strike="noStrike">
                  <a:solidFill>
                    <a:srgbClr val="333333"/>
                  </a:solidFill>
                  <a:latin typeface="H-Times New Roman"/>
                </a:rPr>
                <a:t>átla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762120" y="533520"/>
            <a:ext cx="7924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z átlagok akkor is különböznek, ha a csoportok között nincs a valóságban különbsé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4440" y="3199680"/>
            <a:ext cx="854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333333"/>
                </a:solidFill>
                <a:latin typeface="Times New Roman"/>
              </a:rPr>
              <a:t>cso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26D696-591A-41B8-9E8A-9F8987E1DB8F}" type="slidenum">
              <a:t>2</a:t>
            </a:fld>
          </a:p>
        </p:txBody>
      </p:sp>
    </p:spTree>
  </p:cSld>
  <p:transition>
    <p:checke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834120" y="912960"/>
            <a:ext cx="2803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Általánosítá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-adik nullhipotézi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3924360" y="838080"/>
                <a:ext cx="202572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r>
                      <m:t xml:space="preserve">:</m:t>
                    </m:r>
                    <m:r>
                      <m:t xml:space="preserve"> 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</m:sSub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1600200" y="2133720"/>
                <a:ext cx="12254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24" name=""/>
          <p:cNvSpPr/>
          <p:nvPr/>
        </p:nvSpPr>
        <p:spPr>
          <a:xfrm>
            <a:off x="3664440" y="2107440"/>
            <a:ext cx="3183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hu-HU" sz="2400" spc="-1" strike="noStrike" baseline="-25000">
                <a:solidFill>
                  <a:srgbClr val="000000"/>
                </a:solidFill>
                <a:latin typeface="Times New Roman"/>
              </a:rPr>
              <a:t>ik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kontraszt-együttható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1219320" y="3200400"/>
                <a:ext cx="16826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</m:sSub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⋅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26" name=""/>
          <p:cNvSpPr/>
          <p:nvPr/>
        </p:nvSpPr>
        <p:spPr>
          <a:xfrm>
            <a:off x="3733560" y="3199320"/>
            <a:ext cx="130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kontrasz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914400" y="4408560"/>
                <a:ext cx="143820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: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3975120" y="4406760"/>
                <a:ext cx="15825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3</m:t>
                            </m:r>
                            <m:r>
                              <m:t xml:space="preserve">⋅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29" name=""/>
          <p:cNvSpPr/>
          <p:nvPr/>
        </p:nvSpPr>
        <p:spPr>
          <a:xfrm>
            <a:off x="3159360" y="5079240"/>
            <a:ext cx="3288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hu-HU" sz="2400" spc="-1" strike="noStrike" baseline="-25000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=0, </a:t>
            </a: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hu-HU" sz="2400" spc="-1" strike="noStrike" baseline="-25000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=1, </a:t>
            </a: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hu-HU" sz="2400" spc="-1" strike="noStrike" baseline="-25000">
                <a:solidFill>
                  <a:srgbClr val="000000"/>
                </a:solidFill>
                <a:latin typeface="Times New Roman"/>
              </a:rPr>
              <a:t>31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=-1, </a:t>
            </a: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hu-HU" sz="2400" spc="-1" strike="noStrike" baseline="-25000">
                <a:solidFill>
                  <a:srgbClr val="000000"/>
                </a:solidFill>
                <a:latin typeface="Times New Roman"/>
              </a:rPr>
              <a:t>41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7162920" y="228600"/>
                <a:ext cx="143172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: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7175520" y="838080"/>
                <a:ext cx="186372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: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49451A-2A6E-45AC-B157-C03D91F4DFD7}" type="slidenum">
              <a:t>20</a:t>
            </a:fld>
          </a:p>
        </p:txBody>
      </p:sp>
    </p:spTree>
  </p:cSld>
  <p:transition>
    <p:checker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066680" y="914400"/>
                <a:ext cx="20653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</m:s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4572000" y="609480"/>
                <a:ext cx="2432160" cy="91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ar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e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f>
                          <m:num>
                            <m:sSubSup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k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704880" y="2133720"/>
                <a:ext cx="3052800" cy="68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r>
                      <m:t xml:space="preserve">:</m:t>
                    </m:r>
                    <m:r>
                      <m:t xml:space="preserve">E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</m:sSub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1447920" y="3124080"/>
                <a:ext cx="2266920" cy="142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⋅</m:t>
                                </m:r>
                              </m:sub>
                            </m:sSub>
                          </m:e>
                        </m:nary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ad>
                          <m:radPr>
                            <m:degHide m:val="1"/>
                          </m:radPr>
                          <m:deg/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sSubSup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k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6" name=""/>
          <p:cNvSpPr/>
          <p:nvPr/>
        </p:nvSpPr>
        <p:spPr>
          <a:xfrm>
            <a:off x="793440" y="5180040"/>
            <a:ext cx="586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ortogonálisak a kontrasztok, ha minden </a:t>
            </a: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hu-HU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-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ekkor függetlenek az összehasonlításo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6934320" y="5181480"/>
                <a:ext cx="14810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l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17A377-06BF-4C33-AAC3-F76661BFED5C}" type="slidenum">
              <a:t>21</a:t>
            </a:fld>
          </a:p>
        </p:txBody>
      </p:sp>
    </p:spTree>
  </p:cSld>
  <p:transition>
    <p:checker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8" name=""/>
          <p:cNvGraphicFramePr/>
          <p:nvPr/>
        </p:nvGraphicFramePr>
        <p:xfrm>
          <a:off x="604800" y="3052800"/>
          <a:ext cx="7101000" cy="3240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4800" y="3052800"/>
                    <a:ext cx="7101000" cy="32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685800" y="609480"/>
                <a:ext cx="187020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: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711360" y="1371600"/>
                <a:ext cx="184608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: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685800" y="2133720"/>
                <a:ext cx="294948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3</m:t>
                        </m:r>
                      </m:sup>
                    </m:sSubSup>
                    <m:r>
                      <m:t xml:space="preserve">: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6019920" y="838080"/>
                <a:ext cx="14810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l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4" name=""/>
          <p:cNvSpPr/>
          <p:nvPr/>
        </p:nvSpPr>
        <p:spPr>
          <a:xfrm>
            <a:off x="7697520" y="8370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6013440" y="2133720"/>
                <a:ext cx="2089080" cy="46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46" name=""/>
          <p:cNvSpPr/>
          <p:nvPr/>
        </p:nvSpPr>
        <p:spPr>
          <a:xfrm>
            <a:off x="5029200" y="2362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3388D-A04D-4BC7-B2E7-BC804FE96186}" type="slidenum">
              <a:t>22</a:t>
            </a:fld>
          </a:p>
        </p:txBody>
      </p:sp>
    </p:spTree>
  </p:cSld>
  <p:transition>
    <p:checker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457200" y="304920"/>
                <a:ext cx="99216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4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48" name=""/>
          <p:cNvSpPr/>
          <p:nvPr/>
        </p:nvSpPr>
        <p:spPr>
          <a:xfrm>
            <a:off x="1749240" y="457200"/>
            <a:ext cx="671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összehasonlítás (1-2, 1-3, 1-4, 2-3, 2-4, 3-4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st ho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219320" y="1295280"/>
            <a:ext cx="72612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egy összehasonlításra az elsőfajú hiba valószínűsége </a:t>
            </a:r>
            <a:r>
              <a:rPr b="0" i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l-GR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i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l.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05)</a:t>
            </a:r>
            <a:r>
              <a:rPr b="0" i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individual error ra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gy nem követünk el elsőfajú hibát: 1- </a:t>
            </a:r>
            <a:r>
              <a:rPr b="0" i="1" lang="el-GR" sz="24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i="1" lang="el-GR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hogy </a:t>
            </a: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független összehasonlítás egyikéné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sem követünk el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sőfajú hibát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hogy </a:t>
            </a: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független összehasonlítás valamelyikénél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elkövetünk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sőfajú hibát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7810560" y="3784680"/>
                <a:ext cx="101592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α</m:t>
                                </m:r>
                              </m:e>
                              <m:sup/>
                            </m:sSup>
                          </m:e>
                        </m:d>
                      </m:e>
                      <m:sup>
                        <m:r>
                          <m:t xml:space="preserve">r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7327800" y="4927680"/>
                <a:ext cx="187956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α</m:t>
                                </m:r>
                              </m:e>
                              <m:sup/>
                            </m:sSup>
                          </m:e>
                        </m:d>
                      </m:e>
                      <m:sup>
                        <m:r>
                          <m:t xml:space="preserve">r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52" name=""/>
          <p:cNvSpPr/>
          <p:nvPr/>
        </p:nvSpPr>
        <p:spPr>
          <a:xfrm>
            <a:off x="1977120" y="5638680"/>
            <a:ext cx="238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family error rat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5943600" y="5638680"/>
                <a:ext cx="248616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e>
                        </m:d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6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4801680" y="5638680"/>
            <a:ext cx="49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0CD805-06B5-4C46-B97E-C207825E2892}" type="slidenum">
              <a:t>23</a:t>
            </a:fld>
          </a:p>
        </p:txBody>
      </p:sp>
    </p:spTree>
  </p:cSld>
  <p:transition>
    <p:checker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64920" y="608400"/>
            <a:ext cx="510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Nem független összehasonlítások eseté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914400" y="2057400"/>
                <a:ext cx="104148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≤</m:t>
                    </m:r>
                    <m:sSup>
                      <m:e>
                        <m:r>
                          <m:t xml:space="preserve">kα</m:t>
                        </m:r>
                      </m:e>
                      <m:sup/>
                    </m:sSup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3181680" y="2056320"/>
            <a:ext cx="345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Bonferroni-egyenlőtlensé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5943600" y="3200400"/>
                <a:ext cx="157464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⋅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5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9" name=""/>
          <p:cNvSpPr/>
          <p:nvPr/>
        </p:nvSpPr>
        <p:spPr>
          <a:xfrm>
            <a:off x="832680" y="312300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pl. 6 nem független összehasonlítás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A5BAE-8467-48C3-A49B-9BBCDE197867}" type="slidenum">
              <a:t>24</a:t>
            </a:fld>
          </a:p>
        </p:txBody>
      </p:sp>
    </p:spTree>
  </p:cSld>
  <p:transition>
    <p:checker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0" name=""/>
          <p:cNvGraphicFramePr/>
          <p:nvPr/>
        </p:nvGraphicFramePr>
        <p:xfrm>
          <a:off x="380880" y="914400"/>
          <a:ext cx="4419720" cy="164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914400"/>
                    <a:ext cx="4419720" cy="16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2" name=""/>
          <p:cNvGraphicFramePr/>
          <p:nvPr/>
        </p:nvGraphicFramePr>
        <p:xfrm>
          <a:off x="3657600" y="1676520"/>
          <a:ext cx="5486400" cy="1360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57600" y="1676520"/>
                    <a:ext cx="5486400" cy="13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5504040" y="685800"/>
                <a:ext cx="131904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65" name=""/>
          <p:cNvGraphicFramePr/>
          <p:nvPr/>
        </p:nvGraphicFramePr>
        <p:xfrm>
          <a:off x="380880" y="3352680"/>
          <a:ext cx="4800600" cy="1791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0880" y="3352680"/>
                    <a:ext cx="4800600" cy="179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7" name=""/>
          <p:cNvGraphicFramePr/>
          <p:nvPr/>
        </p:nvGraphicFramePr>
        <p:xfrm>
          <a:off x="3657600" y="4419720"/>
          <a:ext cx="5181480" cy="1285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657600" y="4419720"/>
                    <a:ext cx="5181480" cy="12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5729400" y="3276720"/>
                <a:ext cx="136188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452520" y="303840"/>
            <a:ext cx="86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Tervezett összehasonlítások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Planned comps fülön: Specify contra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B903BD-E482-45A0-A531-F1448B87F09A}" type="slidenum">
              <a:t>25</a:t>
            </a:fld>
          </a:p>
        </p:txBody>
      </p:sp>
    </p:spTree>
  </p:cSld>
  <p:transition>
    <p:checker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5867280" y="228600"/>
                <a:ext cx="214812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272" name=""/>
          <p:cNvGraphicFramePr/>
          <p:nvPr/>
        </p:nvGraphicFramePr>
        <p:xfrm>
          <a:off x="0" y="228600"/>
          <a:ext cx="4724280" cy="176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28600"/>
                    <a:ext cx="4724280" cy="176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3124080" y="1219320"/>
          <a:ext cx="6019920" cy="1455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24080" y="1219320"/>
                    <a:ext cx="6019920" cy="145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69B401-D784-40EC-B371-DAF7C096BE27}" type="slidenum">
              <a:t>26</a:t>
            </a:fld>
          </a:p>
        </p:txBody>
      </p:sp>
    </p:spTree>
  </p:cSld>
  <p:transition>
    <p:checker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6" name=""/>
          <p:cNvGraphicFramePr/>
          <p:nvPr/>
        </p:nvGraphicFramePr>
        <p:xfrm>
          <a:off x="304920" y="1676520"/>
          <a:ext cx="5943600" cy="445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676520"/>
                    <a:ext cx="5943600" cy="44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6429240" y="3733920"/>
                <a:ext cx="271476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MSSE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sSubSup>
                                  <m:e>
                                    <m:r>
                                      <m:t xml:space="preserve">α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e>
                            </m:nary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r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79" name=""/>
          <p:cNvSpPr/>
          <p:nvPr/>
        </p:nvSpPr>
        <p:spPr>
          <a:xfrm>
            <a:off x="223200" y="152280"/>
            <a:ext cx="527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Mekkora különbséget tudnánk kimutatn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33920" y="913320"/>
            <a:ext cx="751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Statisti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Power Analysis&gt;Several Means, ANOVA 1-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3FD276-66BC-41DF-A914-620E2539D07E}" type="slidenum">
              <a:t>27</a:t>
            </a:fld>
          </a:p>
        </p:txBody>
      </p:sp>
    </p:spTree>
  </p:cSld>
  <p:transition>
    <p:checker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1" name=""/>
          <p:cNvGraphicFramePr/>
          <p:nvPr/>
        </p:nvGraphicFramePr>
        <p:xfrm>
          <a:off x="838080" y="2514600"/>
          <a:ext cx="4724640" cy="125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514600"/>
                    <a:ext cx="4724640" cy="12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3" name=""/>
          <p:cNvSpPr/>
          <p:nvPr/>
        </p:nvSpPr>
        <p:spPr>
          <a:xfrm>
            <a:off x="606960" y="228600"/>
            <a:ext cx="27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Homoszkedaszticit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3276720" y="4343400"/>
          <a:ext cx="5181480" cy="14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4343400"/>
                    <a:ext cx="5181480" cy="14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6" name=""/>
          <p:cNvSpPr/>
          <p:nvPr/>
        </p:nvSpPr>
        <p:spPr>
          <a:xfrm>
            <a:off x="6324480" y="2514600"/>
            <a:ext cx="2438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érzékeny a normális eloszlás feltételezésé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7" name=""/>
              <p:cNvSpPr txBox="1"/>
              <p:nvPr/>
            </p:nvSpPr>
            <p:spPr>
              <a:xfrm>
                <a:off x="5029200" y="304920"/>
                <a:ext cx="141768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e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kons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8" name=""/>
          <p:cNvSpPr/>
          <p:nvPr/>
        </p:nvSpPr>
        <p:spPr>
          <a:xfrm>
            <a:off x="988560" y="1675440"/>
            <a:ext cx="189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Bartlett-prób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835920" y="4343400"/>
            <a:ext cx="1879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Levene-prób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630480" y="30384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62400" y="913320"/>
            <a:ext cx="789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More results&gt;Assumptions fülön: Homogeneity of variances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048120" y="2819520"/>
            <a:ext cx="2971800" cy="1143000"/>
          </a:xfrm>
          <a:prstGeom prst="ellipse">
            <a:avLst/>
          </a:prstGeom>
          <a:noFill/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A4A556-EA43-4344-B872-060A6322C610}" type="slidenum">
              <a:t>28</a:t>
            </a:fld>
          </a:p>
        </p:txBody>
      </p:sp>
    </p:spTree>
  </p:cSld>
  <p:transition>
    <p:checker dir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221400" y="228600"/>
            <a:ext cx="73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A feltételezések ellenőrzése a reziduumok vizsgálatá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457200" y="3657600"/>
          <a:ext cx="3657600" cy="274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657600"/>
                    <a:ext cx="365760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6" name=""/>
          <p:cNvGraphicFramePr/>
          <p:nvPr/>
        </p:nvGraphicFramePr>
        <p:xfrm>
          <a:off x="5029200" y="762120"/>
          <a:ext cx="3581280" cy="2685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29200" y="762120"/>
                    <a:ext cx="3581280" cy="26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8" name=""/>
          <p:cNvGraphicFramePr/>
          <p:nvPr/>
        </p:nvGraphicFramePr>
        <p:xfrm>
          <a:off x="4800600" y="3733920"/>
          <a:ext cx="3581280" cy="2685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00600" y="3733920"/>
                    <a:ext cx="3581280" cy="26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0" name=""/>
          <p:cNvSpPr/>
          <p:nvPr/>
        </p:nvSpPr>
        <p:spPr>
          <a:xfrm>
            <a:off x="441000" y="1031760"/>
            <a:ext cx="231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Residuals 1 fülö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269440" y="1946160"/>
            <a:ext cx="14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Norm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809880" y="22096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27520" y="2666880"/>
            <a:ext cx="435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Pred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amp; resid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edicted resul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histogra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371600" y="31240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495680" y="3429000"/>
            <a:ext cx="38124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B3C82B-77A4-4360-AA90-8B91DCD0D2A2}" type="slidenum">
              <a:t>29</a:t>
            </a:fld>
          </a:p>
        </p:txBody>
      </p:sp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1143000" y="2209680"/>
          <a:ext cx="7130880" cy="41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209680"/>
                    <a:ext cx="713088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3870360" y="2514600"/>
            <a:ext cx="2225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333333"/>
                </a:solidFill>
                <a:latin typeface="H-Times New Roman"/>
              </a:rPr>
              <a:t>átla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505320" y="2666880"/>
            <a:ext cx="152280" cy="22860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505320" y="2666880"/>
            <a:ext cx="30456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657240" y="2666880"/>
            <a:ext cx="152280" cy="22860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296720" y="3504600"/>
            <a:ext cx="854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333333"/>
                </a:solidFill>
                <a:latin typeface="Times New Roman"/>
              </a:rPr>
              <a:t>cso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90120" y="456120"/>
            <a:ext cx="769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Itt az átlagok jobban különböznek. Szignifikáns a különbsé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3124080" y="1143000"/>
                <a:ext cx="31719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⋅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93A113-973A-42B9-95C1-FBFCDBFD20D4}" type="slidenum">
              <a:t>3</a:t>
            </a:fld>
          </a:p>
        </p:txBody>
      </p:sp>
    </p:spTree>
  </p:cSld>
  <p:transition>
    <p:checker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6" name=""/>
          <p:cNvGraphicFramePr/>
          <p:nvPr/>
        </p:nvGraphicFramePr>
        <p:xfrm>
          <a:off x="685800" y="2209680"/>
          <a:ext cx="3962520" cy="297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09680"/>
                    <a:ext cx="396252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8" name=""/>
          <p:cNvSpPr/>
          <p:nvPr/>
        </p:nvSpPr>
        <p:spPr>
          <a:xfrm>
            <a:off x="671040" y="727200"/>
            <a:ext cx="320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siduals 2 f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ülö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X: Order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Y: Res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9A0ECA-FE39-4E1A-8EF0-8031124E1DD2}" type="slidenum">
              <a:t>30</a:t>
            </a:fld>
          </a:p>
        </p:txBody>
      </p:sp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57200" y="145440"/>
            <a:ext cx="7669080" cy="1848960"/>
          </a:xfrm>
          <a:prstGeom prst="rect">
            <a:avLst/>
          </a:prstGeom>
          <a:noFill/>
          <a:ln w="507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29. pél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(Box-Hunter-Hunter: Statistics for Experimenters, J. Wiley, 1978, p. 165) Véralvadási idő (sec) négyféle diéta esetén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alv.s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57200" y="2438280"/>
            <a:ext cx="4495680" cy="3517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5168880" y="2666880"/>
                <a:ext cx="2671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2AB8D-BD99-4C46-8947-E2879E186F0C}" type="slidenum">
              <a:t>4</a:t>
            </a:fld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355760" y="1260360"/>
            <a:ext cx="6797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Ha nincs különbség a csoportok között, csak a véletlen ingadozás miatt térnek el egymástól az átlago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1523880" y="2819520"/>
                <a:ext cx="40644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y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75" name=""/>
          <p:cNvSpPr/>
          <p:nvPr/>
        </p:nvSpPr>
        <p:spPr>
          <a:xfrm>
            <a:off x="2570760" y="2801880"/>
            <a:ext cx="347112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kétféleképpen adható me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ismétlések közötti eltér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átlagok közötti eltér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1676520" y="4875840"/>
            <a:ext cx="5685840" cy="515160"/>
            <a:chOff x="1676520" y="4875840"/>
            <a:chExt cx="5685840" cy="515160"/>
          </a:xfrm>
        </p:grpSpPr>
        <mc:AlternateContent>
          <mc:Choice xmlns:a14="http://schemas.microsoft.com/office/drawing/2010/main" Requires="a14">
            <p:sp>
              <p:nvSpPr>
                <p:cNvPr id="77" name=""/>
                <p:cNvSpPr txBox="1"/>
                <p:nvPr/>
              </p:nvSpPr>
              <p:spPr>
                <a:xfrm>
                  <a:off x="1676520" y="4876920"/>
                  <a:ext cx="35532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8" name=""/>
                <p:cNvSpPr txBox="1"/>
                <p:nvPr/>
              </p:nvSpPr>
              <p:spPr>
                <a:xfrm>
                  <a:off x="3124080" y="4876920"/>
                  <a:ext cx="35568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p:sp>
          <p:nvSpPr>
            <p:cNvPr id="79" name=""/>
            <p:cNvSpPr/>
            <p:nvPr/>
          </p:nvSpPr>
          <p:spPr>
            <a:xfrm>
              <a:off x="2363760" y="487584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000000"/>
                  </a:solidFill>
                  <a:latin typeface="Times New Roman"/>
                </a:rPr>
                <a:t>é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735000" y="4875840"/>
              <a:ext cx="38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000000"/>
                  </a:solidFill>
                  <a:latin typeface="Times New Roman"/>
                </a:rPr>
                <a:t>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1" name=""/>
                <p:cNvSpPr txBox="1"/>
                <p:nvPr/>
              </p:nvSpPr>
              <p:spPr>
                <a:xfrm>
                  <a:off x="4572000" y="4876920"/>
                  <a:ext cx="411120" cy="514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y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p:sp>
          <p:nvSpPr>
            <p:cNvPr id="82" name=""/>
            <p:cNvSpPr/>
            <p:nvPr/>
          </p:nvSpPr>
          <p:spPr>
            <a:xfrm>
              <a:off x="5256720" y="4875840"/>
              <a:ext cx="210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000000"/>
                  </a:solidFill>
                  <a:latin typeface="Times New Roman"/>
                </a:rPr>
                <a:t>körül ingadozi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76E8D9-47B3-4F72-BDC4-7E6549D69967}" type="slidenum">
              <a:t>5</a:t>
            </a:fld>
          </a:p>
        </p:txBody>
      </p:sp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528840" y="501840"/>
            <a:ext cx="475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z </a:t>
            </a: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-edik csoporton belüli ingadozá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varianciá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5791320" y="0"/>
                <a:ext cx="2320920" cy="13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p>
                      <m:e/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048120" y="4191120"/>
                <a:ext cx="5246640" cy="14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</m:e>
                      <m:sub>
                        <m:r>
                          <m:t xml:space="preserve">y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/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6" name=""/>
          <p:cNvSpPr/>
          <p:nvPr/>
        </p:nvSpPr>
        <p:spPr>
          <a:xfrm>
            <a:off x="600120" y="3275640"/>
            <a:ext cx="77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z egyesített csoportokon belüli szórásnégyzet (ha konstan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6477120" y="1523880"/>
                <a:ext cx="1425600" cy="134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⋅</m:t>
                        </m:r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sup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</m:e>
                            </m:nary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8" name=""/>
          <p:cNvSpPr/>
          <p:nvPr/>
        </p:nvSpPr>
        <p:spPr>
          <a:xfrm>
            <a:off x="830880" y="1904040"/>
            <a:ext cx="428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(a csoport-átlagtól való eltérése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C7130E-84D8-4C68-91A2-01C39FAAAE07}" type="slidenum">
              <a:t>6</a:t>
            </a:fld>
          </a:p>
        </p:txBody>
      </p:sp>
    </p:spTree>
  </p:cSld>
  <p:transition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5105520" y="1295280"/>
                <a:ext cx="1644480" cy="53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y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/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0" name=""/>
          <p:cNvSpPr/>
          <p:nvPr/>
        </p:nvSpPr>
        <p:spPr>
          <a:xfrm>
            <a:off x="289440" y="273240"/>
            <a:ext cx="885708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 csoport átlagának varianciája, ha a valóságban nincs különbség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(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csak véletlen ingadoz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5943600" y="2362320"/>
                <a:ext cx="2898720" cy="12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s</m:t>
                        </m:r>
                      </m:e>
                      <m:sub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r</m:t>
                        </m:r>
                      </m:sup>
                      <m:e/>
                    </m:nary>
                  </m:oMath>
                </a14:m>
              </a:p>
            </p:txBody>
          </p:sp>
        </mc:Choice>
        <mc:Fallback/>
      </mc:AlternateContent>
      <p:sp>
        <p:nvSpPr>
          <p:cNvPr id="92" name=""/>
          <p:cNvSpPr/>
          <p:nvPr/>
        </p:nvSpPr>
        <p:spPr>
          <a:xfrm>
            <a:off x="528840" y="2885040"/>
            <a:ext cx="46688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z átlagokból becsülve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h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kon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237440" y="1675440"/>
            <a:ext cx="147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ismétlés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6781320" y="1599840"/>
            <a:ext cx="304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533520" y="4572000"/>
                <a:ext cx="3905280" cy="12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y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y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ps</m:t>
                        </m:r>
                      </m:e>
                      <m:sub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p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r</m:t>
                        </m:r>
                      </m:sup>
                      <m:e/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6095880" y="4648320"/>
                <a:ext cx="2551320" cy="12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r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97" name=""/>
          <p:cNvSpPr/>
          <p:nvPr/>
        </p:nvSpPr>
        <p:spPr>
          <a:xfrm>
            <a:off x="4747680" y="4113720"/>
            <a:ext cx="325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általánosa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h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n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8E89CD-5385-47F1-A16D-A39A69945E5B}" type="slidenum">
              <a:t>7</a:t>
            </a:fld>
          </a:p>
        </p:txBody>
      </p:sp>
    </p:spTree>
  </p:cSld>
  <p:transition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447920" y="1295280"/>
                <a:ext cx="1098360" cy="91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1752480" y="4724280"/>
                <a:ext cx="157320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&gt;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4952880" y="2286000"/>
                <a:ext cx="2678400" cy="13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/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4952880" y="228600"/>
                <a:ext cx="2705400" cy="12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r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02" name=""/>
          <p:cNvSpPr/>
          <p:nvPr/>
        </p:nvSpPr>
        <p:spPr>
          <a:xfrm>
            <a:off x="7978680" y="2970720"/>
            <a:ext cx="116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with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742160" y="837000"/>
            <a:ext cx="14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betwe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2895480" y="990720"/>
            <a:ext cx="190512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 flipV="1">
            <a:off x="2743200" y="2057400"/>
            <a:ext cx="2209680" cy="838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66800" y="3859920"/>
            <a:ext cx="4641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ha a valóságban van különbség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(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5410080" y="3962520"/>
          <a:ext cx="3124440" cy="213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0080" y="3962520"/>
                    <a:ext cx="3124440" cy="21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BE9109-59BF-4278-B8DF-DFA841498EAC}" type="slidenum">
              <a:t>8</a:t>
            </a:fld>
          </a:p>
        </p:txBody>
      </p:sp>
    </p:spTree>
  </p:cSld>
  <p:transition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819160" y="380880"/>
            <a:ext cx="35924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NOVA tábláz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304920" y="1143000"/>
          <a:ext cx="8610480" cy="3809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143000"/>
                    <a:ext cx="861048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"/>
          <p:cNvSpPr/>
          <p:nvPr/>
        </p:nvSpPr>
        <p:spPr>
          <a:xfrm>
            <a:off x="441360" y="5013360"/>
            <a:ext cx="855036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hu-HU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ún. teljes négyzetösszeg. Az A faktor hatása jelentős (elutasítju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43880" y="5394240"/>
            <a:ext cx="25124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 H</a:t>
            </a:r>
            <a:r>
              <a:rPr b="0" lang="hu-HU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hipotézist), h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4038480" y="5562720"/>
                <a:ext cx="17416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³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ri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O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347795-698B-4B92-829A-C88E3BF51B10}" type="slidenum">
              <a:t>9</a:t>
            </a:fld>
          </a:p>
        </p:txBody>
      </p:sp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6T17:27:07Z</dcterms:created>
  <dc:creator>Kemeny S.</dc:creator>
  <dc:description/>
  <dc:language>en-US</dc:language>
  <cp:lastModifiedBy>Sandor Kemeny</cp:lastModifiedBy>
  <cp:lastPrinted>2004-03-28T17:40:53Z</cp:lastPrinted>
  <dcterms:modified xsi:type="dcterms:W3CDTF">2008-04-14T15:38:40Z</dcterms:modified>
  <cp:revision>230</cp:revision>
  <dc:subject/>
  <dc:title>Folyamatkepessegi elemzes</dc:title>
</cp:coreProperties>
</file>