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014120" y="723600"/>
            <a:ext cx="4830840" cy="36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587840"/>
            <a:ext cx="502920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565A-C9D9-423C-AF28-0E88293EABA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88584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CCAB-4A9D-4B27-BCA2-5F5DD47AA84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023840" y="731880"/>
            <a:ext cx="4811760" cy="36082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587840"/>
            <a:ext cx="502920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584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6EF7-835C-4F96-84A2-F506537C9F8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23840" y="731880"/>
            <a:ext cx="4811760" cy="3608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587840"/>
            <a:ext cx="502920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88584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8006-5501-451C-AF9C-79180892FA2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23840" y="731880"/>
            <a:ext cx="4811760" cy="3608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587840"/>
            <a:ext cx="502920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388584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D5D1-8FD7-482B-AC50-6826E012F7B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023840" y="731880"/>
            <a:ext cx="4811760" cy="36082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587840"/>
            <a:ext cx="502920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BD431-95B9-486D-A024-1236120C57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1600" y="405900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5AE5A-DE2E-49C3-8200-AABB477579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38228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F9D35-1172-4463-90B0-B5A09C366D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8304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0412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6160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8304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0412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BCD2C-905C-44CA-8E97-D9F5A1036F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6309F-4424-45AB-AE29-D8194B4CCD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290EA-3FB0-4B89-883E-824EDBE515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AD96F-F79D-4D8C-8859-5046D8F325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59DE2-0D56-455B-81C4-CF7F54D2F2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09600" y="151920"/>
            <a:ext cx="5908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2FF30-A187-4B85-B69B-EABBE8DBE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BE940-9AD5-4EE4-BFF1-049BFFD56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38228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F70DA-5D18-4FAE-9308-BD8D5A11D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5F8E6-8FC8-4931-ACF1-22452085C4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43240" y="6400800"/>
            <a:ext cx="267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ANO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330960" y="6400800"/>
            <a:ext cx="175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89B3-A227-4129-A5D7-19F47D3CF7F1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467840" cy="114300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VARIANCIAANALÍZIS (ANOVA) véletlen faktorok eseté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3258720"/>
            <a:ext cx="66294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Variancia-komponens-elemz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561BE-F383-4AB5-8A5A-A28CEE364DE9}" type="slidenum">
              <a:t>1</a:t>
            </a:fld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990720" y="914400"/>
          <a:ext cx="6553080" cy="490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914400"/>
                    <a:ext cx="6553080" cy="49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813240" y="270000"/>
            <a:ext cx="44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z eredeti átlag-terjedelem-kárty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6000" y="6019920"/>
            <a:ext cx="52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j van!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bil a gyártási folyama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54EAA-DC77-4CB9-B2AB-50573386EC5B}" type="slidenum">
              <a:t>10</a:t>
            </a:fld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1371600"/>
            <a:ext cx="777240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it is akarunk az ellenőrző kártyáv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különíteni a véletlen ingadozást a veszélyes hibától. A véletlen ingadozást a szokásos esetben a mintán belüli eltérések mutatjá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tt a mintán belüli ingadozás csak egy része a véletlen ingadozásnak, a hónapok közöttit is figyelembe kell ven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9BEB0-F96F-4A18-8F8A-250E6EDCFBCB}" type="slidenum">
              <a:t>11</a:t>
            </a:fld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763120" cy="2062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46760" y="2819520"/>
            <a:ext cx="81345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hónapok közötti különbség tehát jelentő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djunk becslést az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faktor (a hónapok) hatásának varianciájár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09480" y="4114800"/>
                <a:ext cx="48006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3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2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3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449280" y="510552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ismétlések varianciájának becslé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819520" y="5867280"/>
                <a:ext cx="19810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2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79080" y="152280"/>
            <a:ext cx="36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VA (varianciaanalízi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82418-A793-4DD3-8B03-8271CBA55CD1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62120" y="2743200"/>
                <a:ext cx="14954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62120" y="1905120"/>
                <a:ext cx="19810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2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746280" y="574560"/>
            <a:ext cx="786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beavatkozási határokat a szokásos esetben az ismétlések ingadozásából számolju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0920" y="1828800"/>
            <a:ext cx="52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ismétlések szórásnégyzetének becsl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274320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hónapok közötti ingadozás szórásnégyzetének becsl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838080" y="4038480"/>
                <a:ext cx="1752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 flipV="1">
            <a:off x="762120" y="18288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1828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62120" y="25905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5909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65760" y="4191120"/>
            <a:ext cx="552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zt kell a kártya beavatkozási határaiho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sznál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14400" y="5410080"/>
                <a:ext cx="38606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35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2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94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 flipV="1">
            <a:off x="838080" y="54860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8385B-511F-4AE0-BE3D-10F0E42A291E}" type="slidenum">
              <a:t>13</a:t>
            </a:fld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838080" y="1143000"/>
          <a:ext cx="6782040" cy="50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143000"/>
                    <a:ext cx="6782040" cy="50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669960" y="11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2240" y="27000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kétrétegű ingadozást (hónap és ismétlés) figyelembe vevő beavatkozási határokkal rajzolt  kárt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CFF79-5E98-4980-9A6C-1E5A6BA9E0F4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60984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ereszt-osztályozás két véletlen faktor szeri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905120"/>
            <a:ext cx="6950160" cy="404208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. pél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y elemzést nemcsak különböző napokon végeztek el, hanem különböző személyek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, hogy a mérést különböző napokon és különböző személyek végzik, okoz-e többlet-ingadozást az egy nap egy személy végezte ismétlések szóródásához képe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803F3-8BAF-48B2-86A0-1DD2E0206773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0" y="1066680"/>
          <a:ext cx="8691480" cy="448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869148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66C16-246D-42EF-AFCD-B2629B64B20A}" type="slidenum">
              <a:t>16</a:t>
            </a:fld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124080" y="914400"/>
                <a:ext cx="36990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685800" y="5181480"/>
            <a:ext cx="6416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példában 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3,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4,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6200" y="91332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o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6720" y="4342320"/>
            <a:ext cx="53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1,…,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;  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1,…,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;  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=1,…,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(ismétlé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00680" y="1904040"/>
            <a:ext cx="64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ap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emély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ölcsönhatás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smétlési hi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743200" y="1371600"/>
            <a:ext cx="167652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191120" y="1371240"/>
            <a:ext cx="76176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5638680" y="137160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6477120" y="1447560"/>
            <a:ext cx="121896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0960" y="350424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üggetlene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62120" y="2895480"/>
                <a:ext cx="17366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174840" y="2882880"/>
                <a:ext cx="17892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6080040" y="2806560"/>
                <a:ext cx="20732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825480" y="3581280"/>
                <a:ext cx="160812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68577-C5C5-4CF3-A0B4-2772435EF005}" type="slidenum">
              <a:t>17</a:t>
            </a:fld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57200" y="685800"/>
                <a:ext cx="3733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772080" y="1828800"/>
                <a:ext cx="14792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772080" y="2666880"/>
                <a:ext cx="14824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770280" y="3505320"/>
                <a:ext cx="17017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79440" y="182772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nullhipotézis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066680" y="4495680"/>
                <a:ext cx="33973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total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986400" y="5409000"/>
            <a:ext cx="44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övelik az ingadozást? Mennyi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96280" y="684720"/>
            <a:ext cx="43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nap, személy, kölcsönhatás, hi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ED094-A6E9-4610-AE52-B4A6A29AA087}" type="slidenum">
              <a:t>18</a:t>
            </a:fld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0" y="1295280"/>
          <a:ext cx="9144000" cy="495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14400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763560" y="533520"/>
            <a:ext cx="2687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NOVA-tábláz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BEEAF-1BAC-4AF2-A8B8-4F5245D86AD4}" type="slidenum">
              <a:t>19</a:t>
            </a:fld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380880"/>
            <a:ext cx="853452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Rögzített faktorok: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intjeiket a kísérletekhez megválaszthatjuk és beállíthatjuk.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érdés: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an-e különbség a faktor különböző szintjei között, melyik közülük a legjob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Véletlen fakt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intjeit egy elképzelt sokaságból véletlenszerűen választjuk 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érdés: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faktornak van-e hatása az ingadozásra, több véletlen faktor közül melyik milyen mértékben járul hozzá az ingadozáshoz, a jövőben mekkora ingadozás várható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531C0-6CBF-4886-A261-21633D2F3D11}" type="slidenum">
              <a:t>2</a:t>
            </a:fld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0" y="1677960"/>
          <a:ext cx="9144000" cy="373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7960"/>
                    <a:ext cx="9144000" cy="37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830880" y="685800"/>
            <a:ext cx="363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példa adataival számolv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7CF43-F5AE-4060-B8BC-C8469011E0FD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0" y="2133720"/>
          <a:ext cx="8763120" cy="258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8763120" cy="25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457200" y="3031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tatistics&gt;Advanced Linear/Nonlinear Model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gt;General Linear Models&gt;Factorial AN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ptions fülön: Random Nap, Sz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38CBD-E7E4-4AAB-AF29-10179F8EA68D}" type="slidenum">
              <a:t>21</a:t>
            </a:fld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457200" y="380880"/>
          <a:ext cx="6858000" cy="25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6858000" cy="25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0" y="3048120"/>
          <a:ext cx="8458200" cy="3504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048120"/>
                    <a:ext cx="845820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BA2A0-ED26-4949-B78D-AA677D5B61E4}" type="slidenum">
              <a:t>22</a:t>
            </a:fld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990720" y="3733920"/>
          <a:ext cx="6400800" cy="25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733920"/>
                    <a:ext cx="6400800" cy="25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0" y="0"/>
          <a:ext cx="9448920" cy="3581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4489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3419B-9CD8-4965-80C0-C8BC306B2DA0}" type="slidenum">
              <a:t>23</a:t>
            </a:fld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0" y="0"/>
          <a:ext cx="4495680" cy="310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495680" cy="31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33520" y="3200400"/>
                <a:ext cx="2394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4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38200" y="3862440"/>
                <a:ext cx="579744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317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43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2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17400" y="4929120"/>
                <a:ext cx="626112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8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43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225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4" name=""/>
          <p:cNvGraphicFramePr/>
          <p:nvPr/>
        </p:nvGraphicFramePr>
        <p:xfrm>
          <a:off x="4495680" y="457200"/>
          <a:ext cx="4648320" cy="219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457200"/>
                    <a:ext cx="464832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 flipV="1">
            <a:off x="533520" y="320040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32004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57200" y="403848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40384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09480" y="5105160"/>
            <a:ext cx="1526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5105520"/>
            <a:ext cx="759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F3CC3-9C3D-4F44-ADC0-8E896C3ECCB2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339480"/>
            <a:ext cx="7543800" cy="99684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ereszt-osztályozás két véletlen faktor szerint: Gage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R stud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94560" y="411480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lkatrés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8120" y="4114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perá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97920" y="289548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smétlési hi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1640" y="41148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ölcsönha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990720" y="2590920"/>
                <a:ext cx="36813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 flipV="1">
            <a:off x="2133720" y="3047760"/>
            <a:ext cx="15228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3047760" y="3123720"/>
            <a:ext cx="68580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3657600" y="3124080"/>
            <a:ext cx="137160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4647960" y="2895120"/>
            <a:ext cx="14475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B5CE5-6D20-45A5-B50E-16891F5850A4}" type="slidenum">
              <a:t>25</a:t>
            </a:fld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7924680" cy="34369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9480" y="709200"/>
            <a:ext cx="7772400" cy="203760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. pél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ox-Hunter-Hunter: Statistics for Experimenters, J. Wiley, 1978, p. 2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enicillin gyártása, 4 technológiát akarnak összehasonlítani, a kukoricalekvár-adagok különbözn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6280" y="594252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incs ismét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70920" y="0"/>
            <a:ext cx="2382840" cy="52056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Véletlen blok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A04D9-A7E5-49E2-AEBE-B7B45358493E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066680" y="1066680"/>
                <a:ext cx="36752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62120" y="2971800"/>
                <a:ext cx="27907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762120" y="4114800"/>
                <a:ext cx="15001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85800" y="5410080"/>
                <a:ext cx="17398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3657600" y="2842200"/>
            <a:ext cx="518148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ülönbözik az egyes technológiákkal elérhető kitermelé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egnöveli a kuk. lekvár-adagok közötti különbség a kitermelés ingadozásá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an kölcsönhatás közöttü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840" y="30384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o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048120" y="343080"/>
                <a:ext cx="404496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1295280" y="1904040"/>
            <a:ext cx="33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echnológi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uk.lekvá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057400" y="15238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3123720" y="152352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D5D37-17D4-4DF7-B19F-2C58AD7E5F98}" type="slidenum">
              <a:t>27</a:t>
            </a:fld>
          </a:p>
        </p:txBody>
      </p:sp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0" y="990720"/>
          <a:ext cx="9104400" cy="500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0440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688320" y="304920"/>
            <a:ext cx="3188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ANOVA-tábláz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6781680" y="4952880"/>
                <a:ext cx="180972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228600" y="6107760"/>
            <a:ext cx="1666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1, </a:t>
            </a: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ism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724280" y="304920"/>
                <a:ext cx="40100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53419-3D95-4763-A1CE-CFD52121093D}" type="slidenum">
              <a:t>28</a:t>
            </a:fld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380880" y="152280"/>
          <a:ext cx="7543800" cy="20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280"/>
                    <a:ext cx="754380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33520" y="2362320"/>
                <a:ext cx="367488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5026680" y="236124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e nincs ismét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990720" y="5562720"/>
                <a:ext cx="266040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5103720" y="563760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nincs kölcsönhatá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09480" y="3581280"/>
          <a:ext cx="7543800" cy="201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581280"/>
                    <a:ext cx="7543800" cy="20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594720" y="3123000"/>
            <a:ext cx="28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ain effects AN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29AD5-DF03-48D2-8989-2AF352F48A16}" type="slidenum">
              <a:t>29</a:t>
            </a:fld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8080" y="426960"/>
            <a:ext cx="7467840" cy="51912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 véletlen faktor szerinti varianciaanalíz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1600200"/>
            <a:ext cx="7772400" cy="192096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. pél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y elemzést három napon kétszer-kétszer végeztek 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koz-e ingadozást az, hogy különböző napokon végezték a mérések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914400" y="3733920"/>
          <a:ext cx="6477120" cy="236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733920"/>
                    <a:ext cx="647712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D8D84-B284-49E7-93AF-4011DC55885E}" type="slidenum">
              <a:t>3</a:t>
            </a:fld>
          </a:p>
        </p:txBody>
      </p: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3809880" y="2209680"/>
          <a:ext cx="4800600" cy="20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209680"/>
                    <a:ext cx="4800600" cy="20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3503520" cy="44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"/>
          <p:cNvGraphicFramePr/>
          <p:nvPr/>
        </p:nvGraphicFramePr>
        <p:xfrm>
          <a:off x="380880" y="0"/>
          <a:ext cx="7543800" cy="2048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0"/>
                    <a:ext cx="754380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3886200" y="4343400"/>
          <a:ext cx="5257800" cy="1957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86200" y="4343400"/>
                    <a:ext cx="5257800" cy="19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946FE-B83D-43C0-B715-E36C6E6BD1F3}" type="slidenum">
              <a:t>30</a:t>
            </a:fld>
          </a:p>
        </p:txBody>
      </p:sp>
    </p:spTree>
  </p:cSld>
  <p:transition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4495680" y="1447920"/>
          <a:ext cx="4038840" cy="168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447920"/>
                    <a:ext cx="4038840" cy="16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114800" y="3809880"/>
                <a:ext cx="43052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304920" y="457200"/>
            <a:ext cx="3865320" cy="4876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 flipH="1">
            <a:off x="6629400" y="24382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0" y="23612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6629400" y="2590920"/>
            <a:ext cx="8380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B61EA-7C9A-4160-847C-6A1A0588A2D5}" type="slidenum">
              <a:t>31</a:t>
            </a:fld>
          </a:p>
        </p:txBody>
      </p:sp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559840" y="228600"/>
            <a:ext cx="33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reziduumok ellenőrz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0" y="0"/>
          <a:ext cx="5105520" cy="38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105520" cy="38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4038480" y="2514600"/>
          <a:ext cx="487692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2514600"/>
                    <a:ext cx="48769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5D412-0828-4B7E-9554-F6665101230C}" type="slidenum">
              <a:t>32</a:t>
            </a:fld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09600" y="247320"/>
            <a:ext cx="5908680" cy="56988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Hierarchikus osztályozá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90720" y="1143000"/>
            <a:ext cx="68738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. pél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ox, Hunter és Hunter (1978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estékgyári nedvesség-tartalom-meghatározás: 15 gyártott adagból két-két mintát vesznek, mindkettőnek a víztartalmát kétszer-kétszer megméri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82760" y="3225960"/>
            <a:ext cx="8026200" cy="2844720"/>
            <a:chOff x="482760" y="3225960"/>
            <a:chExt cx="8026200" cy="2844720"/>
          </a:xfrm>
        </p:grpSpPr>
        <p:sp>
          <p:nvSpPr>
            <p:cNvPr id="253" name=""/>
            <p:cNvSpPr/>
            <p:nvPr/>
          </p:nvSpPr>
          <p:spPr>
            <a:xfrm>
              <a:off x="666720" y="3260880"/>
              <a:ext cx="681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gyártott adagok         1                   2           …           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7440" y="3794040"/>
              <a:ext cx="7358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minták                  1        2          3       4      …       29       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0760" y="4861080"/>
              <a:ext cx="7799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elemzés             1   2    3   4      5   6   7   8   …   57  58   59  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74880" y="51656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6360" y="4251240"/>
              <a:ext cx="7430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(1)     (2)        (1)    (2)     …      (1)       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7680" y="54705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3480" y="5318280"/>
              <a:ext cx="7741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(1) (2) (1) (2)  (1) (2) (1) (2) …  (1)  (2) (1)  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089840" y="3660840"/>
              <a:ext cx="22536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822040" y="4651200"/>
              <a:ext cx="14940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3584160" y="4651200"/>
              <a:ext cx="14940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575240" y="4651200"/>
              <a:ext cx="14904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5336640" y="4651200"/>
              <a:ext cx="14940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708240" y="4727520"/>
              <a:ext cx="14940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7698960" y="4651200"/>
              <a:ext cx="14940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32240" y="3660840"/>
              <a:ext cx="30168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3127320" y="3660840"/>
              <a:ext cx="30168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803840" y="3660840"/>
              <a:ext cx="22536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32440" y="3660840"/>
              <a:ext cx="22536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18440" y="3660840"/>
              <a:ext cx="30168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75040" y="4651200"/>
              <a:ext cx="14904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36800" y="4651200"/>
              <a:ext cx="14940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803840" y="4651200"/>
              <a:ext cx="14904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65600" y="4651200"/>
              <a:ext cx="14940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37200" y="4727520"/>
              <a:ext cx="14940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27920" y="4651200"/>
              <a:ext cx="14940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82760" y="3225960"/>
              <a:ext cx="8026200" cy="28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DDD93-E2CB-4A3B-BD4F-06A70798E3DE}" type="slidenum">
              <a:t>33</a:t>
            </a:fld>
          </a:p>
        </p:txBody>
      </p:sp>
    </p:spTree>
  </p:cSld>
  <p:transition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0" y="1447920"/>
          <a:ext cx="784872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784872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746280" y="822240"/>
            <a:ext cx="7407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adatok táblázatának egy rész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22240" y="898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9D74A-D4B5-4E7F-9AB6-04CFDA967F7B}" type="slidenum">
              <a:t>34</a:t>
            </a:fld>
          </a:p>
        </p:txBody>
      </p:sp>
    </p:spTree>
  </p:cSld>
  <p:transition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835560" y="533520"/>
            <a:ext cx="141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mode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819520" y="533520"/>
                <a:ext cx="31906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2132640" y="1751400"/>
            <a:ext cx="47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dag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int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nalíz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666880" y="914400"/>
            <a:ext cx="137160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495680" y="1066320"/>
            <a:ext cx="15264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5715000" y="1066320"/>
            <a:ext cx="45720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1143000" y="2971800"/>
                <a:ext cx="17366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708360" y="2959200"/>
                <a:ext cx="178920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208560" y="2882880"/>
                <a:ext cx="19702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k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d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1050120" y="38088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üggetlen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5434A-FAEE-4306-A2DF-BA1BA882BEC0}" type="slidenum">
              <a:t>35</a:t>
            </a:fld>
          </a:p>
        </p:txBody>
      </p:sp>
    </p:spTree>
  </p:cSld>
  <p:transition>
    <p:checke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0" y="1295280"/>
          <a:ext cx="9144000" cy="335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14400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685440" y="457200"/>
            <a:ext cx="2766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ANOVA-tábláz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80880" y="4800600"/>
                <a:ext cx="1481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: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2895480" y="4800600"/>
                <a:ext cx="10782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/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B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57200" y="5562720"/>
                <a:ext cx="14810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r>
                      <m:t xml:space="preserve">: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2819520" y="5562720"/>
                <a:ext cx="11890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Sup>
                      <m:e/>
                      <m:sub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/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019920" y="4419720"/>
                <a:ext cx="19954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019920" y="5334120"/>
                <a:ext cx="19954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 flipV="1">
            <a:off x="6019920" y="4647960"/>
            <a:ext cx="1522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172200" y="4648320"/>
            <a:ext cx="1522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943600" y="5486400"/>
            <a:ext cx="2286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72200" y="54864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A077F-1808-41B8-BFAF-5C84888F9093}" type="slidenum">
              <a:t>36</a:t>
            </a:fld>
          </a:p>
        </p:txBody>
      </p:sp>
    </p:spTree>
  </p:cSld>
  <p:transition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"/>
          <p:cNvGraphicFramePr/>
          <p:nvPr/>
        </p:nvGraphicFramePr>
        <p:xfrm>
          <a:off x="457200" y="990720"/>
          <a:ext cx="8458200" cy="20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8458200" cy="20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762120" y="3581280"/>
          <a:ext cx="4724280" cy="169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581280"/>
                    <a:ext cx="4724280" cy="16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9E859-3D19-4579-BA0F-3EF91D36286E}" type="slidenum">
              <a:t>37</a:t>
            </a:fld>
          </a:p>
        </p:txBody>
      </p:sp>
    </p:spTree>
  </p:cSld>
  <p:transition>
    <p:checke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61722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Egy rögzített és két véletlen faktor: latin négyze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8077320" cy="25351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09480" y="1368000"/>
            <a:ext cx="8153640" cy="210564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. pél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ox-Hunter-Hunter: Statistics for Experimenters, J. Wiley, 1978, p. 2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égy benzin-adalékot hasonlítanak össze szennyezés-kibocsátás szempontjából. Gondolni kell az autók és vezetők esetleges különbözőségére is (blokk-faktorok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3480" y="5942520"/>
            <a:ext cx="79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ezető: 1,…,4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utó: I,…,IV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dalék: A, B, C,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22BD7-32A2-43C6-BF9F-59EDB656A827}" type="slidenum">
              <a:t>38</a:t>
            </a:fld>
          </a:p>
        </p:txBody>
      </p:sp>
    </p:spTree>
  </p:cSld>
  <p:transition>
    <p:checke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1219320" y="914400"/>
                <a:ext cx="33271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385920" y="30384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o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80600" y="837000"/>
            <a:ext cx="20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smétlés nélkü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914400" y="2590920"/>
                <a:ext cx="6730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β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611280" y="190404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teljes modell ilyen lenne: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3441600" y="304920"/>
                <a:ext cx="51008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6482520" y="19040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hu-H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kísérle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09480" y="3429000"/>
            <a:ext cx="8077320" cy="253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96787-15D4-49CE-82CA-74D65FC4076B}" type="slidenum">
              <a:t>39</a:t>
            </a:fld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685440" y="762120"/>
            <a:ext cx="4261320" cy="477720"/>
            <a:chOff x="685440" y="762120"/>
            <a:chExt cx="4261320" cy="477720"/>
          </a:xfrm>
        </p:grpSpPr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2971800" y="762120"/>
                  <a:ext cx="1974960" cy="47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m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6" name=""/>
            <p:cNvSpPr/>
            <p:nvPr/>
          </p:nvSpPr>
          <p:spPr>
            <a:xfrm>
              <a:off x="685440" y="762120"/>
              <a:ext cx="148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A modell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438280" y="1416240"/>
            <a:ext cx="6019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 faktor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szintjének (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nap) hat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özös érték;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+1 paramé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834120" y="2894400"/>
            <a:ext cx="6014160" cy="459720"/>
            <a:chOff x="834120" y="2894400"/>
            <a:chExt cx="6014160" cy="459720"/>
          </a:xfrm>
        </p:grpSpPr>
        <p:sp>
          <p:nvSpPr>
            <p:cNvPr id="59" name=""/>
            <p:cNvSpPr/>
            <p:nvPr/>
          </p:nvSpPr>
          <p:spPr>
            <a:xfrm>
              <a:off x="834120" y="2894400"/>
              <a:ext cx="237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rögzített faktorná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3876480" y="2895480"/>
                  <a:ext cx="29718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: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1" name=""/>
          <p:cNvSpPr/>
          <p:nvPr/>
        </p:nvSpPr>
        <p:spPr>
          <a:xfrm>
            <a:off x="910800" y="396144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életlen faktorná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886200" y="4800600"/>
                <a:ext cx="1150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562720" y="4724280"/>
                <a:ext cx="1601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7162920" y="5410080"/>
                <a:ext cx="145080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886200" y="5410080"/>
                <a:ext cx="14461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6553080" y="5334120"/>
            <a:ext cx="2286000" cy="1143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962520" y="3962520"/>
                <a:ext cx="17366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B500D-06CD-4D65-92FB-76AA670EE6B5}" type="slidenum">
              <a:t>4</a:t>
            </a:fld>
          </a:p>
        </p:txBody>
      </p:sp>
    </p:spTree>
  </p:cSld>
  <p:transition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685800" y="4343400"/>
          <a:ext cx="6095880" cy="18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343400"/>
                    <a:ext cx="6095880" cy="18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762120" y="1143000"/>
          <a:ext cx="4572000" cy="16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143000"/>
                    <a:ext cx="45720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595080" y="150840"/>
            <a:ext cx="839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tatistics&gt;Industrial Statistics &amp; Six Sigma&gt;Experimental Desig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gt;Latin squar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28936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tatistics&gt;Advanced Linear/Nonlinear Model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gt;General Linear Models&gt;Main effects AN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ptions fülön: Random factors: Driver, C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All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46FE9-2F0E-4B02-B5CD-3F5FA3D98F68}" type="slidenum">
              <a:t>40</a:t>
            </a:fld>
          </a:p>
        </p:txBody>
      </p:sp>
    </p:spTree>
  </p:cSld>
  <p:transition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" name=""/>
          <p:cNvGraphicFramePr/>
          <p:nvPr/>
        </p:nvGraphicFramePr>
        <p:xfrm>
          <a:off x="685800" y="2895480"/>
          <a:ext cx="7086600" cy="34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95480"/>
                    <a:ext cx="7086600" cy="34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757800" y="2361240"/>
            <a:ext cx="37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ummary fülön: Coeffic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762120" y="228600"/>
          <a:ext cx="4800600" cy="214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28600"/>
                    <a:ext cx="480060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6076080" y="501840"/>
            <a:ext cx="283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ögzített faktorokké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ugyanaz az eredmé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8916C-4CFE-4FFD-9E43-C8C74633CE17}" type="slidenum">
              <a:t>41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914400"/>
          <a:ext cx="914400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440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458280" y="2275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NOVA-tábláz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286000" y="4724280"/>
                <a:ext cx="1990800" cy="18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p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num>
                      <m:den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105520" y="5334120"/>
                <a:ext cx="14461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7162920" y="5105520"/>
                <a:ext cx="101412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304920" y="6019920"/>
            <a:ext cx="99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8640" y="49518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60958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B14D9-CA2B-4875-9FC6-014E3B8424FE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2120" y="45720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ANOVA táblázat egy véletlen fakto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4191120"/>
            <a:ext cx="3733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fogadjuk a nullhipotéz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629400" y="4191120"/>
                <a:ext cx="14461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781680" y="5029200"/>
                <a:ext cx="101448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2" name=""/>
          <p:cNvGraphicFramePr/>
          <p:nvPr/>
        </p:nvGraphicFramePr>
        <p:xfrm>
          <a:off x="533520" y="1371600"/>
          <a:ext cx="7543800" cy="19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71600"/>
                    <a:ext cx="7543800" cy="19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1295280" y="2819520"/>
            <a:ext cx="990720" cy="380880"/>
          </a:xfrm>
          <a:prstGeom prst="ellipse">
            <a:avLst/>
          </a:pr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6917B-52DD-483C-B960-DCB1A0B2139F}" type="slidenum">
              <a:t>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1800" y="1522800"/>
            <a:ext cx="88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 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      hipotézist elutasítjuk, becsülnünk kell a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varianciá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90720" y="2286000"/>
            <a:ext cx="2065320" cy="939960"/>
            <a:chOff x="990720" y="2286000"/>
            <a:chExt cx="2065320" cy="939960"/>
          </a:xfrm>
        </p:grpSpPr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990720" y="2743200"/>
                  <a:ext cx="206532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pσ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d>
                      <m:r>
                        <m:t xml:space="preserve">=</m:t>
                      </m:r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88" name=""/>
            <p:cNvSpPr/>
            <p:nvPr/>
          </p:nvSpPr>
          <p:spPr>
            <a:xfrm flipV="1">
              <a:off x="990720" y="2286000"/>
              <a:ext cx="758880" cy="22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6520" y="2286000"/>
              <a:ext cx="758880" cy="22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5029200" y="2666520"/>
            <a:ext cx="1120680" cy="560880"/>
            <a:chOff x="5029200" y="2666520"/>
            <a:chExt cx="1120680" cy="560880"/>
          </a:xfrm>
        </p:grpSpPr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5105520" y="2743200"/>
                  <a:ext cx="104436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92" name=""/>
            <p:cNvSpPr/>
            <p:nvPr/>
          </p:nvSpPr>
          <p:spPr>
            <a:xfrm flipV="1">
              <a:off x="5029200" y="2666520"/>
              <a:ext cx="225360" cy="149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57800" y="2666880"/>
              <a:ext cx="225360" cy="149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762120" y="3962520"/>
            <a:ext cx="1719000" cy="961920"/>
            <a:chOff x="762120" y="3962520"/>
            <a:chExt cx="1719000" cy="961920"/>
          </a:xfrm>
        </p:grpSpPr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762120" y="4038480"/>
                  <a:ext cx="1719000" cy="88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−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t xml:space="preserve">p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6" name=""/>
            <p:cNvSpPr/>
            <p:nvPr/>
          </p:nvSpPr>
          <p:spPr>
            <a:xfrm flipV="1">
              <a:off x="762120" y="3962520"/>
              <a:ext cx="225360" cy="14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90720" y="3962520"/>
              <a:ext cx="225360" cy="14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09480" y="457200"/>
                <a:ext cx="22240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p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419720" y="457200"/>
                <a:ext cx="13777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00" name=""/>
          <p:cNvGrpSpPr/>
          <p:nvPr/>
        </p:nvGrpSpPr>
        <p:grpSpPr>
          <a:xfrm>
            <a:off x="685800" y="1523880"/>
            <a:ext cx="6754680" cy="482760"/>
            <a:chOff x="685800" y="1523880"/>
            <a:chExt cx="6754680" cy="482760"/>
          </a:xfrm>
        </p:grpSpPr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685800" y="1523880"/>
                  <a:ext cx="144612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: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7010280" y="1523880"/>
                  <a:ext cx="430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03" name=""/>
          <p:cNvGraphicFramePr/>
          <p:nvPr/>
        </p:nvGraphicFramePr>
        <p:xfrm>
          <a:off x="4267080" y="3962520"/>
          <a:ext cx="4267440" cy="18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3962520"/>
                    <a:ext cx="426744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C19CE-BE94-4AD8-BDC3-635EDE25736B}" type="slidenum">
              <a:t>7</a:t>
            </a:fld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2120" y="685800"/>
            <a:ext cx="7315200" cy="389664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. péld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llenőrző kártya többrétegű ingadozás eseté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Gyógyszergyári ellenőrző laboratóriumban az eljárás stabilitását (időbeli állandóságát) úgy ellenőrzik, hogy egy ismert összetételű minta (ún. ellenőrző minta) hatóanyag-tartalmát havonta mérik, alkalmanként 3 ismétléss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F12B8-4381-4609-9139-727C14408697}" type="slidenum">
              <a:t>8</a:t>
            </a:fld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7162920" cy="5790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88EF8-91DA-4AD1-A37C-A032ECD64362}" type="slidenum">
              <a:t>9</a:t>
            </a:fld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17:27:07Z</dcterms:created>
  <dc:creator>Kemeny S.</dc:creator>
  <dc:description/>
  <dc:language>en-US</dc:language>
  <cp:lastModifiedBy>Sandor Kemeny</cp:lastModifiedBy>
  <cp:lastPrinted>2004-03-28T17:40:53Z</cp:lastPrinted>
  <dcterms:modified xsi:type="dcterms:W3CDTF">2008-04-14T15:40:21Z</dcterms:modified>
  <cp:revision>228</cp:revision>
  <dc:subject/>
  <dc:title>Folyamatkepessegi elemzes</dc:title>
</cp:coreProperties>
</file>